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CE43-91EA-4C70-A12D-88026B99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4A5D-EFAD-4863-96B2-2B1AFB79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F152-CF23-4CBD-A044-686C518E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E5B2-7EE8-49BD-8671-E9764BF7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4796-1A24-4A54-B8E0-E0F99354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C85E-C311-4C3D-8F10-2D4A4DB6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75BE-69FA-430F-ADBA-FE50AA8F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DE7F-FA4D-4D9E-B479-1F206AA0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72B0-549E-4333-8C05-C044DFF1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66D4-BE01-43FC-87CC-FB949F91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5F1C-F2BB-4B8F-AF96-F03F2002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2719-DCB8-415D-913F-7003E40C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C861-F7BE-4A4C-BACD-896CA3D27961}" type="slidenum">
              <a:rPr b="0" lang="en-US" sz="14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76080" y="268200"/>
            <a:ext cx="719460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 Narrow"/>
              </a:rPr>
              <a:t>Southern Africa → Malawi food insecurity and the 2005 food crisis</a:t>
            </a:r>
            <a:r>
              <a:rPr b="1" lang="en-GB" sz="66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360" y="31680"/>
            <a:ext cx="1525680" cy="1513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96880" y="2571840"/>
            <a:ext cx="81280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cc"/>
                </a:solidFill>
                <a:latin typeface="Tahoma"/>
                <a:ea typeface="Times New Roman"/>
              </a:rPr>
              <a:t>Presentation at “Continental Seminar on Food Security – Africa”; 12 - 16 March 2007, Nairobi, Kenya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Richard Masundire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Senior Agricultural Economis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SADC Secretariat, Gaborone, Botswan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www.sadc.in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76080" y="267840"/>
            <a:ext cx="71946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alawi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360" y="31680"/>
            <a:ext cx="1525680" cy="1513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371600" y="1401840"/>
            <a:ext cx="7105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dry spell in February 2005 affected most crops (maize and cash crops) significant impact on food security.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response, Malawi VAC embarked on two early warning activities namely (a) the pre-harvest indicative analysis and (b) the </a:t>
            </a:r>
            <a:r>
              <a:rPr b="0" lang="en-ZA" sz="2800" spc="-1" strike="noStrike">
                <a:solidFill>
                  <a:srgbClr val="3333cc"/>
                </a:solidFill>
                <a:latin typeface="Tahoma"/>
              </a:rPr>
              <a:t>Main Harvest-Based Early Warning Monitoring Assessment and Analysis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76080" y="267840"/>
            <a:ext cx="71946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alawi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360" y="31680"/>
            <a:ext cx="1525680" cy="1513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371600" y="1401840"/>
            <a:ext cx="710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rop estimate done on 1st April 2005 forecast a maize harvest of 1.3 million MT compared to 1.7 million Mt 2004; resultant shortfall of 300,000 to 350,000 MT 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76080" y="267840"/>
            <a:ext cx="71946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alawi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360" y="31680"/>
            <a:ext cx="1525680" cy="1513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371600" y="1087560"/>
            <a:ext cx="7105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opulation continued to face high levels of vulnerability, much of it chronic and related to high levels of poverty and HIV/AIDS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ritical rainfall failure and lack of agric inputs during planting led to the lowest cereal production since 1994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VAC, using a livelihoods-based vulnerability approach. estimated 4.2 million population at risk of food insecurity requiring 269,600 metric tons of maize equivalent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52760" y="287280"/>
            <a:ext cx="719424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HIV and Aids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360" y="31680"/>
            <a:ext cx="1525680" cy="1513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314360" y="1554120"/>
            <a:ext cx="7086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Health Status, Illness and HIV and AID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health status in SADC countries remains of concern with the highest prevalence of HIV and AIDS in the world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44240" y="647640"/>
            <a:ext cx="81896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76320" y="1101600"/>
            <a:ext cx="7000920" cy="46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52760" y="287280"/>
            <a:ext cx="719424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HIV and Aids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360" y="31680"/>
            <a:ext cx="1525680" cy="1513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314360" y="1154160"/>
            <a:ext cx="708660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ccording to UNAIDS Overview of Global AIDS Epidemic (2006),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IV infection rates seem to have stabilized in most countries with slight increases in South Africa and decreases in Zimbabwe.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xceptionally high infection levels continue in Botswana, Namibia and Swaziland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umber of orphans seems to be increasing with an estimated regional increase of 20.3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ercent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71440" y="1209240"/>
            <a:ext cx="649764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870"/>
                </a:solidFill>
                <a:latin typeface="Tahoma"/>
              </a:rPr>
              <a:t>THANK YO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4121280" y="2287440"/>
            <a:ext cx="428760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080" y="266760"/>
            <a:ext cx="748044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Food Balance Sheets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080" y="1682640"/>
            <a:ext cx="6248520" cy="44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evised estimates indicate an overall 2005 cereal crop production slightly better than 2004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gional cereal production of 25.95 million, 1% better than the 2004 harvest of 25.60 million tonnes. Maize production, estimated at 20.68 million tonnes, is 1% higher than the 2004 harvest of 20.44 million tonnes.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76080" y="268200"/>
            <a:ext cx="71946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ll cereals production estimates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360" y="31680"/>
            <a:ext cx="1525680" cy="1513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96880" y="1684440"/>
            <a:ext cx="7929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90400" y="1504800"/>
          <a:ext cx="7696440" cy="5353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0400" y="1504800"/>
                    <a:ext cx="7696440" cy="53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39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8280" y="337680"/>
            <a:ext cx="8086680" cy="69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870"/>
                </a:solidFill>
                <a:latin typeface="Arial"/>
              </a:rPr>
              <a:t>Data &amp; Analysis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8080" y="1311120"/>
            <a:ext cx="7682040" cy="53719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90400" y="361800"/>
          <a:ext cx="6353280" cy="610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361800"/>
                    <a:ext cx="6353280" cy="61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76080" y="267840"/>
            <a:ext cx="719460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Assessments indicated all countries except South Africa had overall cereal deficits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Zambia (100,000 tonnes),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Zimbabwe (1.62 million tonnes)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Lesotho, 292,000 tonnes</a:t>
            </a:r>
            <a:r>
              <a:rPr b="1" lang="en-US" sz="6000" spc="-1" strike="noStrike">
                <a:solidFill>
                  <a:srgbClr val="3333cc"/>
                </a:solidFill>
                <a:latin typeface="Arial Narrow"/>
              </a:rPr>
              <a:t> </a:t>
            </a:r>
            <a:br>
              <a:rPr sz="6000"/>
            </a:b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Malawi,838,000 tonnes</a:t>
            </a:r>
            <a:r>
              <a:rPr b="1" lang="en-US" sz="6000" spc="-1" strike="noStrike">
                <a:solidFill>
                  <a:srgbClr val="3333cc"/>
                </a:solidFill>
                <a:latin typeface="Arial Narrow"/>
              </a:rPr>
              <a:t> </a:t>
            </a:r>
            <a:br>
              <a:rPr sz="6000"/>
            </a:b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Mozambique,532,000 tonnes</a:t>
            </a:r>
            <a:r>
              <a:rPr b="1" lang="en-US" sz="6000" spc="-1" strike="noStrike">
                <a:solidFill>
                  <a:srgbClr val="3333cc"/>
                </a:solidFill>
                <a:latin typeface="Arial Narrow"/>
              </a:rPr>
              <a:t> </a:t>
            </a:r>
            <a:br>
              <a:rPr sz="6000"/>
            </a:b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Swaziland. 207,000 tonnes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,</a:t>
            </a: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360" y="31680"/>
            <a:ext cx="1525680" cy="1513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6880" y="2019240"/>
            <a:ext cx="792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76080" y="268200"/>
            <a:ext cx="71946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RVAC Analysis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360" y="31680"/>
            <a:ext cx="1525680" cy="1513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200240" y="1573200"/>
            <a:ext cx="7162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VA analysis confirms the fact that vulnerability to food insecurity in the region is chronic in natur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s largely an outcome of growing poverty,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IV and AIDS, and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ak governance, commonly referred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y the UN in the region as the “Triple Threat”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76080" y="267840"/>
            <a:ext cx="71946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Number of people in need of food assistance almost doubles to 9.71 million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360" y="31680"/>
            <a:ext cx="1525680" cy="1513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092240" y="1379520"/>
            <a:ext cx="7186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57400" y="1233000"/>
            <a:ext cx="6772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3333cc"/>
              </a:buClr>
              <a:buSzPct val="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Vulnerability assessments carried out in May 2005 indicated that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SzPct val="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SzPct val="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otal number of people in need of food assistance in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Lesotho, Malawi, Mozambique, Swaziland, Zambia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Zimbabwe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had increased to 9.71 million from 5.4 million during the 2004/05 consumption year.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SzPct val="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SzPct val="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n approximately 730,000 tonnes of food aid required to cover this need. Donor assistance is urgently required to assist these countries.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76080" y="268200"/>
            <a:ext cx="7194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ADC RVAC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360" y="31680"/>
            <a:ext cx="1525680" cy="1513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71600" y="1401840"/>
            <a:ext cx="7105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situation has been exacerbated by consecuti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years of below normal seasons and poor harvests since 2002 leading to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gradual erosion of household assets. In addition,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policy environment in some countries has also had a negative impact, resulting in households facing reduced availability and affordability of basic commodities and services (education, health, water, agricultural inputs and staple foods)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76080" y="267840"/>
            <a:ext cx="71946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alawi Rainfall Performance 2004/2005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360" y="31680"/>
            <a:ext cx="1525680" cy="1513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6880" y="1619280"/>
            <a:ext cx="792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85760" y="1546200"/>
            <a:ext cx="7240320" cy="5311800"/>
            <a:chOff x="1085760" y="1546200"/>
            <a:chExt cx="7240320" cy="531180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3324600" y="1546200"/>
              <a:ext cx="2646360" cy="53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144960" y="2784240"/>
              <a:ext cx="1325880" cy="31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65920" y="3901320"/>
              <a:ext cx="1145160" cy="80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53240" y="5823360"/>
              <a:ext cx="1204560" cy="18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6027840" y="1916640"/>
              <a:ext cx="2290320" cy="16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6096960" y="3590640"/>
              <a:ext cx="2229120" cy="150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5"/>
            <a:stretch/>
          </p:blipFill>
          <p:spPr>
            <a:xfrm>
              <a:off x="6096960" y="5203800"/>
              <a:ext cx="2199960" cy="155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6"/>
            <a:stretch/>
          </p:blipFill>
          <p:spPr>
            <a:xfrm>
              <a:off x="1085760" y="1668240"/>
              <a:ext cx="2409840" cy="16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7"/>
            <a:stretch/>
          </p:blipFill>
          <p:spPr>
            <a:xfrm>
              <a:off x="1146600" y="3467160"/>
              <a:ext cx="2350440" cy="160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8"/>
            <a:stretch/>
          </p:blipFill>
          <p:spPr>
            <a:xfrm>
              <a:off x="1146600" y="5203080"/>
              <a:ext cx="231984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 flipV="1">
              <a:off x="4831560" y="4150080"/>
              <a:ext cx="1384920" cy="6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264840" y="5265720"/>
              <a:ext cx="1867320" cy="37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711320" y="2660040"/>
              <a:ext cx="1446480" cy="74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6T14:38:15Z</dcterms:created>
  <dc:creator>richardm</dc:creator>
  <dc:description/>
  <dc:language>en-US</dc:language>
  <cp:lastModifiedBy>R T Masundire</cp:lastModifiedBy>
  <dcterms:modified xsi:type="dcterms:W3CDTF">2007-03-13T10:07:24Z</dcterms:modified>
  <cp:revision>10</cp:revision>
  <dc:subject/>
  <dc:title>OVERVIEW OF THE FOOD SECURITY SITUATION IN SOUTHERN AFRICA</dc:title>
</cp:coreProperties>
</file>